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41B-A7B1-463B-89A8-2283731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729-7288-412D-BB4D-D499DFE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9DC-2ADC-4812-95A9-062AEAD1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E1F-0A5B-41CF-AE2F-B2EAE30E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E2F-20F5-4B0D-9EFA-EBD86D2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36C-93D3-4FAA-8F1E-6D1E989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650-6977-4917-8894-9EE3C91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1FB-06AF-4FE1-85B4-8907136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F78-9BA4-417B-8D75-44BCEE81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A96-1D41-43A5-B30C-2F9A7ACF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EFB-95B8-450A-87BA-7008A37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DD0-AA07-4E55-829E-A63E8FD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40E0-39BC-4BBE-9722-A6DD5306487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2916360" cy="1557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14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476280"/>
            <a:ext cx="2016000" cy="141300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n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443640" y="836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1773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260280"/>
            <a:ext cx="1763640" cy="105264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7541640" y="1753920"/>
            <a:ext cx="1619280" cy="1079640"/>
          </a:xfrm>
          <a:prstGeom prst="rect">
            <a:avLst/>
          </a:prstGeom>
          <a:solidFill>
            <a:srgbClr val="a6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erre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989000"/>
            <a:ext cx="505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3284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480000" y="3394080"/>
            <a:ext cx="1439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43280" y="4653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5157720"/>
            <a:ext cx="129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65300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5445000"/>
            <a:ext cx="16923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ca/ 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81360"/>
            <a:ext cx="2700360" cy="10810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igra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che se meno di una vol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 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565360"/>
            <a:ext cx="2232000" cy="158436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chiama EMIGRAZIO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ndo l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 un paese s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no all’ estero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797360"/>
            <a:ext cx="1584360" cy="5032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mete principal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16000" y="5300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6165720"/>
            <a:ext cx="1295640" cy="5032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6165720"/>
            <a:ext cx="1079640" cy="50508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300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6093000"/>
            <a:ext cx="1440000" cy="431640"/>
          </a:xfrm>
          <a:prstGeom prst="rect">
            <a:avLst/>
          </a:prstGeom>
          <a:solidFill>
            <a:srgbClr val="a7f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2205000"/>
            <a:ext cx="252108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no stranier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8:14Z</dcterms:created>
  <dc:creator>studente</dc:creator>
  <dc:description/>
  <dc:language>en-US</dc:language>
  <cp:lastModifiedBy>studente</cp:lastModifiedBy>
  <dcterms:modified xsi:type="dcterms:W3CDTF">2016-12-05T08:57:37Z</dcterms:modified>
  <cp:revision>3</cp:revision>
  <dc:subject/>
  <dc:title>Diapositiva 1</dc:title>
</cp:coreProperties>
</file>